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10.wmf" ContentType="image/x-wmf"/>
  <Override PartName="/ppt/media/image4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01519D0-57B1-4F94-BA07-7D110B77B2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5A54485-589A-4DCB-83F3-8A1AE40A2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524954-2E5E-4A55-8F22-26910D902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5A2571F-D24D-42A4-A8D9-31AE5399D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0492953-3788-497B-8BD8-714B9B365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15FEC68-E43A-4641-8FD8-5E32FC7BB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93145F1-D0D9-4D2C-BA06-4B7D1B397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5DBF46D-4E75-478E-8453-5C094CE7E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3018C6A-6C58-41DD-B64E-B563091D8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7B760D-6D12-42AA-A09F-1B3EC227E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9B3B4D-BF33-49B9-AA63-3EDA05F1D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26150EF-1369-4858-A5E0-AD4C991DF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4B24771-9A71-4E19-A804-061394058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C9D9D44-F108-4FBD-BCCF-F388E986F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5E9972-62C7-450D-ADCD-1A62DEE69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2828-9B00-4011-80F4-E210F54B4F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964D8-4B41-4822-A72C-7D5B0F2C3E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14E89-6514-4C99-BD06-1821460865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D6B1F-A2AC-42A7-9151-05A1D4B601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CFD3-19CB-48F1-A37A-BEB1270B6B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D91D-4E3D-4845-9E4E-E4D7C379FE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C8366-318B-4EAD-AB10-5C17F19102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2260-C0E6-474C-8158-82F40FD273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3D17-B83D-4498-A46D-13FD80E7C0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E849-CE31-42AA-80CA-DBA1CD236E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0C77-72E1-480D-9CF8-7AA6C92A47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69C0-9CDA-4287-9C46-03F7852691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4"/>
          </p:nvPr>
        </p:nvSpPr>
        <p:spPr>
          <a:xfrm>
            <a:off x="1238040" y="6400800"/>
            <a:ext cx="3632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</p:txBody>
      </p:sp>
      <p:pic>
        <p:nvPicPr>
          <p:cNvPr id="45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0321824210_i.jpg"/>
          <p:cNvPicPr/>
          <p:nvPr/>
        </p:nvPicPr>
        <p:blipFill>
          <a:blip r:embed="rId4"/>
          <a:stretch/>
        </p:blipFill>
        <p:spPr>
          <a:xfrm>
            <a:off x="415800" y="115920"/>
            <a:ext cx="4929480" cy="616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1" marL="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2881-9E76-4872-A14A-9839AE4507D1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7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90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1" marL="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Pearson_Bound_White"/>
          <p:cNvPicPr/>
          <p:nvPr/>
        </p:nvPicPr>
        <p:blipFill>
          <a:blip r:embed="rId3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Pearson_Bound_White"/>
          <p:cNvPicPr/>
          <p:nvPr/>
        </p:nvPicPr>
        <p:blipFill>
          <a:blip r:embed="rId2"/>
          <a:stretch/>
        </p:blipFill>
        <p:spPr>
          <a:xfrm>
            <a:off x="8432640" y="6496200"/>
            <a:ext cx="1289160" cy="223560"/>
          </a:xfrm>
          <a:prstGeom prst="rect">
            <a:avLst/>
          </a:prstGeom>
          <a:ln w="0">
            <a:noFill/>
          </a:ln>
        </p:spPr>
      </p:pic>
      <p:sp>
        <p:nvSpPr>
          <p:cNvPr id="170" name="Line 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Pearson_Bound_White"/>
          <p:cNvPicPr/>
          <p:nvPr/>
        </p:nvPicPr>
        <p:blipFill>
          <a:blip r:embed="rId4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Always_Learning_Text_Purple_RGB"/>
          <p:cNvPicPr/>
          <p:nvPr/>
        </p:nvPicPr>
        <p:blipFill>
          <a:blip r:embed="rId5"/>
          <a:stretch/>
        </p:blipFill>
        <p:spPr>
          <a:xfrm>
            <a:off x="1366920" y="2332080"/>
            <a:ext cx="7161120" cy="17272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2"/>
          <p:cNvSpPr/>
          <p:nvPr/>
        </p:nvSpPr>
        <p:spPr>
          <a:xfrm>
            <a:off x="0" y="1197000"/>
            <a:ext cx="9907560" cy="7128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9"/>
          <p:cNvSpPr/>
          <p:nvPr/>
        </p:nvSpPr>
        <p:spPr>
          <a:xfrm rot="2779200">
            <a:off x="458640" y="266400"/>
            <a:ext cx="565200" cy="565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2"/>
          <p:cNvSpPr/>
          <p:nvPr/>
        </p:nvSpPr>
        <p:spPr>
          <a:xfrm>
            <a:off x="0" y="1052640"/>
            <a:ext cx="9907560" cy="7128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2"/>
          <p:cNvSpPr/>
          <p:nvPr/>
        </p:nvSpPr>
        <p:spPr>
          <a:xfrm>
            <a:off x="0" y="1052640"/>
            <a:ext cx="9907560" cy="7128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 rot="2779200">
            <a:off x="458640" y="266400"/>
            <a:ext cx="565200" cy="565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9d1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1000" indent="-166680">
              <a:buClr>
                <a:srgbClr val="000000"/>
              </a:buClr>
              <a:buSzPct val="80000"/>
              <a:buFont typeface="Verdana"/>
              <a:buChar char="•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41440" indent="-189000"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722160" indent="-179280">
              <a:buClr>
                <a:srgbClr val="000000"/>
              </a:buClr>
              <a:buSzPct val="80000"/>
              <a:buFont typeface="Arial"/>
              <a:buChar char="○"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3"/>
          </p:nvPr>
        </p:nvSpPr>
        <p:spPr>
          <a:xfrm>
            <a:off x="1238040" y="6400800"/>
            <a:ext cx="3632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slideLayout" Target="../slideLayouts/slideLayout6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slideLayout" Target="../slideLayouts/slideLayout6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6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slideLayout" Target="../slideLayouts/slideLayout6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slideLayout" Target="../slideLayouts/slideLayout6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00520" y="1484280"/>
            <a:ext cx="378108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d1348"/>
                </a:solidFill>
                <a:latin typeface="Arial"/>
              </a:rPr>
              <a:t>Section 3.1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816160" y="3212640"/>
            <a:ext cx="372924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1348"/>
                </a:solidFill>
                <a:latin typeface="Arial"/>
              </a:rPr>
              <a:t>The Complex Numbers</a:t>
            </a:r>
            <a:endParaRPr b="1" lang="en-US" sz="28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3224160" y="6518160"/>
            <a:ext cx="374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Arial"/>
              </a:rPr>
              <a:t>Copyright ©2013, 2009, 2006, 2005 Pearson Education, Inc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600" indent="-1260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and simplify each of the follo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2"/>
          <p:cNvGraphicFramePr/>
          <p:nvPr/>
        </p:nvGraphicFramePr>
        <p:xfrm>
          <a:off x="866880" y="2057400"/>
          <a:ext cx="26002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2057400"/>
                    <a:ext cx="26002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3"/>
          <p:cNvGraphicFramePr/>
          <p:nvPr/>
        </p:nvGraphicFramePr>
        <p:xfrm>
          <a:off x="3921120" y="2057400"/>
          <a:ext cx="28479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1120" y="2057400"/>
                    <a:ext cx="2847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4"/>
          <p:cNvGraphicFramePr/>
          <p:nvPr/>
        </p:nvGraphicFramePr>
        <p:xfrm>
          <a:off x="7264440" y="1981080"/>
          <a:ext cx="191304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64440" y="1981080"/>
                    <a:ext cx="19130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5"/>
          <p:cNvGraphicFramePr/>
          <p:nvPr/>
        </p:nvGraphicFramePr>
        <p:xfrm>
          <a:off x="920880" y="3505320"/>
          <a:ext cx="626112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0880" y="3505320"/>
                    <a:ext cx="62611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6"/>
          <p:cNvGraphicFramePr/>
          <p:nvPr/>
        </p:nvGraphicFramePr>
        <p:xfrm>
          <a:off x="3576600" y="4267080"/>
          <a:ext cx="1568520" cy="30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76600" y="4267080"/>
                    <a:ext cx="15685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7"/>
          <p:cNvGraphicFramePr/>
          <p:nvPr/>
        </p:nvGraphicFramePr>
        <p:xfrm>
          <a:off x="3549600" y="4813200"/>
          <a:ext cx="121140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49600" y="4813200"/>
                    <a:ext cx="1211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8"/>
          <p:cNvGraphicFramePr/>
          <p:nvPr/>
        </p:nvGraphicFramePr>
        <p:xfrm>
          <a:off x="3564000" y="5346720"/>
          <a:ext cx="130644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64000" y="5346720"/>
                    <a:ext cx="1306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9"/>
          <p:cNvGraphicFramePr/>
          <p:nvPr/>
        </p:nvGraphicFramePr>
        <p:xfrm>
          <a:off x="3564000" y="5880240"/>
          <a:ext cx="949320" cy="29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5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64000" y="5880240"/>
                    <a:ext cx="949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600" indent="-1260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Object 2"/>
          <p:cNvGraphicFramePr/>
          <p:nvPr/>
        </p:nvGraphicFramePr>
        <p:xfrm>
          <a:off x="743040" y="1816200"/>
          <a:ext cx="553248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816200"/>
                    <a:ext cx="55324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3"/>
          <p:cNvGraphicFramePr/>
          <p:nvPr/>
        </p:nvGraphicFramePr>
        <p:xfrm>
          <a:off x="3646440" y="2597040"/>
          <a:ext cx="237960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6440" y="2597040"/>
                    <a:ext cx="237960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4"/>
          <p:cNvGraphicFramePr/>
          <p:nvPr/>
        </p:nvGraphicFramePr>
        <p:xfrm>
          <a:off x="3632040" y="3168720"/>
          <a:ext cx="143064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2040" y="3168720"/>
                    <a:ext cx="14306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5"/>
          <p:cNvGraphicFramePr/>
          <p:nvPr/>
        </p:nvGraphicFramePr>
        <p:xfrm>
          <a:off x="770040" y="4114800"/>
          <a:ext cx="524196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0040" y="4114800"/>
                    <a:ext cx="52419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6"/>
          <p:cNvGraphicFramePr/>
          <p:nvPr/>
        </p:nvGraphicFramePr>
        <p:xfrm>
          <a:off x="2765520" y="4800600"/>
          <a:ext cx="243504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65520" y="4800600"/>
                    <a:ext cx="24350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7"/>
          <p:cNvGraphicFramePr/>
          <p:nvPr/>
        </p:nvGraphicFramePr>
        <p:xfrm>
          <a:off x="2765520" y="5492880"/>
          <a:ext cx="218736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65520" y="5492880"/>
                    <a:ext cx="21873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8"/>
          <p:cNvGraphicFramePr/>
          <p:nvPr/>
        </p:nvGraphicFramePr>
        <p:xfrm>
          <a:off x="2792520" y="6064200"/>
          <a:ext cx="1830240" cy="29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1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92520" y="6064200"/>
                    <a:ext cx="18302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Simplifying Powers of </a:t>
            </a:r>
            <a:r>
              <a:rPr b="1" i="1" lang="en-US" sz="3600" spc="-1" strike="noStrike">
                <a:solidFill>
                  <a:srgbClr val="9d1348"/>
                </a:solidFill>
                <a:latin typeface="Arial"/>
              </a:rPr>
              <a:t>i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aised to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 is 1,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aised to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ing power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then be done by using the fact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–1 and expressing the given power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Object 2"/>
          <p:cNvGraphicFramePr/>
          <p:nvPr/>
        </p:nvGraphicFramePr>
        <p:xfrm>
          <a:off x="1281240" y="3213000"/>
          <a:ext cx="560052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3213000"/>
                    <a:ext cx="560052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6"/>
          <p:cNvSpPr/>
          <p:nvPr/>
        </p:nvSpPr>
        <p:spPr>
          <a:xfrm>
            <a:off x="5200560" y="4114800"/>
            <a:ext cx="4457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power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ycle throug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–1, –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the follo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7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Object 2"/>
          <p:cNvGraphicFramePr/>
          <p:nvPr/>
        </p:nvGraphicFramePr>
        <p:xfrm>
          <a:off x="776160" y="2565360"/>
          <a:ext cx="575316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2565360"/>
                    <a:ext cx="575316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Object 3"/>
          <p:cNvGraphicFramePr/>
          <p:nvPr/>
        </p:nvGraphicFramePr>
        <p:xfrm>
          <a:off x="776160" y="4336920"/>
          <a:ext cx="354348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6160" y="4336920"/>
                    <a:ext cx="35434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onjugates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onjug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complex number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 numbe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omplex conjug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+ 7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nd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nd   14 + 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nd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product of a complex number and its conjugate is a real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each of the follo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(5 + 7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5 – 7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.  (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–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488880" y="2421000"/>
            <a:ext cx="8420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(5 + 7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7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9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9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5 + 4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7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(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–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6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495360" y="1981080"/>
            <a:ext cx="924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fraction notation. Multiply by 1, using the conjugate of the denominator to form the symbol for 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1" name="Object 2"/>
          <p:cNvGraphicFramePr/>
          <p:nvPr/>
        </p:nvGraphicFramePr>
        <p:xfrm>
          <a:off x="860400" y="2924280"/>
          <a:ext cx="32194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2924280"/>
                    <a:ext cx="3219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3"/>
          <p:cNvGraphicFramePr/>
          <p:nvPr/>
        </p:nvGraphicFramePr>
        <p:xfrm>
          <a:off x="1789200" y="4092480"/>
          <a:ext cx="266868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9200" y="4092480"/>
                    <a:ext cx="26686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4"/>
          <p:cNvGraphicFramePr/>
          <p:nvPr/>
        </p:nvGraphicFramePr>
        <p:xfrm>
          <a:off x="1816200" y="5400720"/>
          <a:ext cx="233820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6200" y="5400720"/>
                    <a:ext cx="23382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5"/>
          <p:cNvGraphicFramePr/>
          <p:nvPr/>
        </p:nvGraphicFramePr>
        <p:xfrm>
          <a:off x="6500880" y="2924280"/>
          <a:ext cx="20494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00880" y="2924280"/>
                    <a:ext cx="2049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6"/>
          <p:cNvGraphicFramePr/>
          <p:nvPr/>
        </p:nvGraphicFramePr>
        <p:xfrm>
          <a:off x="6521400" y="4200480"/>
          <a:ext cx="150012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1400" y="4200480"/>
                    <a:ext cx="1500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7"/>
          <p:cNvGraphicFramePr/>
          <p:nvPr/>
        </p:nvGraphicFramePr>
        <p:xfrm>
          <a:off x="6521400" y="5477040"/>
          <a:ext cx="177480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21400" y="5477040"/>
                    <a:ext cx="1774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15440" y="1196640"/>
            <a:ext cx="9217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1240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45720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computations involving complex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The Complex-Number System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functions have zeros that are not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omplex-number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 find zeros of functions that are not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ooking at a graph of a function, if the grap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e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os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xis, then it has n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ntercepts, and thus it h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l-number z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each number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7742160" y="2165400"/>
            <a:ext cx="14209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8" name="Object 2"/>
          <p:cNvGraphicFramePr/>
          <p:nvPr/>
        </p:nvGraphicFramePr>
        <p:xfrm>
          <a:off x="825480" y="1752480"/>
          <a:ext cx="122400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752480"/>
                    <a:ext cx="12240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3"/>
          <p:cNvGraphicFramePr/>
          <p:nvPr/>
        </p:nvGraphicFramePr>
        <p:xfrm>
          <a:off x="3962520" y="1752480"/>
          <a:ext cx="143028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752480"/>
                    <a:ext cx="14302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4"/>
          <p:cNvGraphicFramePr/>
          <p:nvPr/>
        </p:nvGraphicFramePr>
        <p:xfrm>
          <a:off x="7113600" y="1752480"/>
          <a:ext cx="173340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13600" y="1752480"/>
                    <a:ext cx="1733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Object 5"/>
          <p:cNvGraphicFramePr/>
          <p:nvPr/>
        </p:nvGraphicFramePr>
        <p:xfrm>
          <a:off x="770040" y="2590920"/>
          <a:ext cx="178884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0040" y="2590920"/>
                    <a:ext cx="17888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6"/>
          <p:cNvGraphicFramePr/>
          <p:nvPr/>
        </p:nvGraphicFramePr>
        <p:xfrm>
          <a:off x="3948120" y="2590920"/>
          <a:ext cx="1417680" cy="44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48120" y="2590920"/>
                    <a:ext cx="14176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7"/>
          <p:cNvGraphicFramePr/>
          <p:nvPr/>
        </p:nvGraphicFramePr>
        <p:xfrm>
          <a:off x="704880" y="3645000"/>
          <a:ext cx="2682720" cy="44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4880" y="3645000"/>
                    <a:ext cx="26827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8"/>
          <p:cNvGraphicFramePr/>
          <p:nvPr/>
        </p:nvGraphicFramePr>
        <p:xfrm>
          <a:off x="3584520" y="3716280"/>
          <a:ext cx="170676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1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4520" y="3716280"/>
                    <a:ext cx="17067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9"/>
          <p:cNvGraphicFramePr/>
          <p:nvPr/>
        </p:nvGraphicFramePr>
        <p:xfrm>
          <a:off x="3584520" y="4365720"/>
          <a:ext cx="240840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3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84520" y="4365720"/>
                    <a:ext cx="2408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10"/>
          <p:cNvGraphicFramePr/>
          <p:nvPr/>
        </p:nvGraphicFramePr>
        <p:xfrm>
          <a:off x="704880" y="5157720"/>
          <a:ext cx="3054240" cy="444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4880" y="5157720"/>
                    <a:ext cx="30542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11"/>
          <p:cNvGraphicFramePr/>
          <p:nvPr/>
        </p:nvGraphicFramePr>
        <p:xfrm>
          <a:off x="3944880" y="5157720"/>
          <a:ext cx="1871640" cy="444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7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44880" y="5157720"/>
                    <a:ext cx="1871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12"/>
          <p:cNvGraphicFramePr/>
          <p:nvPr/>
        </p:nvGraphicFramePr>
        <p:xfrm>
          <a:off x="4016520" y="5877000"/>
          <a:ext cx="1609560" cy="29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69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16520" y="5877000"/>
                    <a:ext cx="16095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9d1348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2"/>
          <p:cNvGraphicFramePr/>
          <p:nvPr/>
        </p:nvGraphicFramePr>
        <p:xfrm>
          <a:off x="631800" y="1413000"/>
          <a:ext cx="356400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413000"/>
                    <a:ext cx="35640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3"/>
          <p:cNvGraphicFramePr/>
          <p:nvPr/>
        </p:nvGraphicFramePr>
        <p:xfrm>
          <a:off x="4390920" y="1425600"/>
          <a:ext cx="207648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0920" y="1425600"/>
                    <a:ext cx="2076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4"/>
          <p:cNvGraphicFramePr/>
          <p:nvPr/>
        </p:nvGraphicFramePr>
        <p:xfrm>
          <a:off x="4376880" y="2035080"/>
          <a:ext cx="32461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76880" y="2035080"/>
                    <a:ext cx="3246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5"/>
          <p:cNvGraphicFramePr/>
          <p:nvPr/>
        </p:nvGraphicFramePr>
        <p:xfrm>
          <a:off x="631800" y="2781360"/>
          <a:ext cx="368784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1800" y="2781360"/>
                    <a:ext cx="3687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6"/>
          <p:cNvGraphicFramePr/>
          <p:nvPr/>
        </p:nvGraphicFramePr>
        <p:xfrm>
          <a:off x="4470480" y="2781360"/>
          <a:ext cx="213336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70480" y="2781360"/>
                    <a:ext cx="2133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7"/>
          <p:cNvGraphicFramePr/>
          <p:nvPr/>
        </p:nvGraphicFramePr>
        <p:xfrm>
          <a:off x="4470480" y="3473280"/>
          <a:ext cx="2009520" cy="292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70480" y="3473280"/>
                    <a:ext cx="20095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8"/>
          <p:cNvGraphicFramePr/>
          <p:nvPr/>
        </p:nvGraphicFramePr>
        <p:xfrm>
          <a:off x="631800" y="4076640"/>
          <a:ext cx="306864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1800" y="4076640"/>
                    <a:ext cx="3068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9"/>
          <p:cNvGraphicFramePr/>
          <p:nvPr/>
        </p:nvGraphicFramePr>
        <p:xfrm>
          <a:off x="3844800" y="4076640"/>
          <a:ext cx="1898640" cy="4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44800" y="4076640"/>
                    <a:ext cx="1898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0"/>
          <p:cNvGraphicFramePr/>
          <p:nvPr/>
        </p:nvGraphicFramePr>
        <p:xfrm>
          <a:off x="3859200" y="4692600"/>
          <a:ext cx="1498680" cy="444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8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59200" y="4692600"/>
                    <a:ext cx="14986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1"/>
          <p:cNvGraphicFramePr/>
          <p:nvPr/>
        </p:nvGraphicFramePr>
        <p:xfrm>
          <a:off x="3859200" y="5238720"/>
          <a:ext cx="1347840" cy="444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1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59200" y="5238720"/>
                    <a:ext cx="1347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2"/>
          <p:cNvGraphicFramePr/>
          <p:nvPr/>
        </p:nvGraphicFramePr>
        <p:xfrm>
          <a:off x="3859200" y="5778360"/>
          <a:ext cx="2806560" cy="457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93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59200" y="5778360"/>
                    <a:ext cx="2806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Complex Numbers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omplex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number of the fo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real numbers. The 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aid to b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aid to b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ary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907920" y="3962520"/>
            <a:ext cx="36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ary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≠ 0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≠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5118120" y="3962520"/>
            <a:ext cx="437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e Imaginary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≠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Addition and Subtraction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numbers obey the commutative, associative, and distributive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dd or subtract them as we do binom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llect the real parts and the imaginary parts of complex numbers just as we collect like terms in binom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r subtract and simplify each of the follo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 (8 + 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3 +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 (4 + 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– (6 – 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15440" y="4344480"/>
            <a:ext cx="85028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  (4 + 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– (6 – 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(4 – 6) + [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–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+ 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344520" y="2708280"/>
            <a:ext cx="8420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 (8 + 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3 +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(8 + 3) + (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1 + (6 + 2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1 + 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4" name="Object 2"/>
          <p:cNvGraphicFramePr/>
          <p:nvPr/>
        </p:nvGraphicFramePr>
        <p:xfrm>
          <a:off x="3549600" y="2057400"/>
          <a:ext cx="99072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9600" y="2057400"/>
                    <a:ext cx="99072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1348"/>
                </a:solidFill>
                <a:latin typeface="Arial"/>
              </a:rPr>
              <a:t>Multiplication</a:t>
            </a:r>
            <a:endParaRPr b="1" lang="en-US" sz="3600" spc="-1" strike="noStrike">
              <a:solidFill>
                <a:srgbClr val="9d1348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4920" y="1413000"/>
            <a:ext cx="9109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600" indent="-1260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       and        are real numb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true when        and        are not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Remember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Object 2"/>
          <p:cNvGraphicFramePr/>
          <p:nvPr/>
        </p:nvGraphicFramePr>
        <p:xfrm>
          <a:off x="1496880" y="1413000"/>
          <a:ext cx="53676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1413000"/>
                    <a:ext cx="5367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Object 3"/>
          <p:cNvGraphicFramePr/>
          <p:nvPr/>
        </p:nvGraphicFramePr>
        <p:xfrm>
          <a:off x="2865600" y="1341360"/>
          <a:ext cx="52200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5600" y="1341360"/>
                    <a:ext cx="5220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Object 4"/>
          <p:cNvGraphicFramePr/>
          <p:nvPr/>
        </p:nvGraphicFramePr>
        <p:xfrm>
          <a:off x="6392880" y="1341360"/>
          <a:ext cx="242244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2880" y="1341360"/>
                    <a:ext cx="242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Object 5"/>
          <p:cNvGraphicFramePr/>
          <p:nvPr/>
        </p:nvGraphicFramePr>
        <p:xfrm>
          <a:off x="3728880" y="2205000"/>
          <a:ext cx="53676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28880" y="2205000"/>
                    <a:ext cx="5367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Object 6"/>
          <p:cNvGraphicFramePr/>
          <p:nvPr/>
        </p:nvGraphicFramePr>
        <p:xfrm>
          <a:off x="5168880" y="2276640"/>
          <a:ext cx="522360" cy="44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68880" y="2276640"/>
                    <a:ext cx="5223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5:26:50Z</dcterms:created>
  <dc:creator>rosimerr</dc:creator>
  <dc:description>Built by: www.mediasterling.com</dc:description>
  <dc:language>en-US</dc:language>
  <cp:lastModifiedBy>Denise Heban</cp:lastModifiedBy>
  <dcterms:modified xsi:type="dcterms:W3CDTF">2011-12-04T00:10:54Z</dcterms:modified>
  <cp:revision>6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